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C6D-4778-4BAE-BFD0-75CCE520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C0E-C10A-46E2-89CF-24124A2C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55D-CFD1-4496-8022-DBBEFC55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0F4-7AE6-452A-AD81-F0A271C6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EE8-9346-4B40-B718-790A1174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9C1-9C60-42F9-A89E-86F6CD38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980-FB81-41A5-98C6-9A36A190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734-CBE1-450C-ACD7-564F897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B56-A5F2-46AD-B062-224CD661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D00-E205-4838-A37D-6CD70A63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937-40CB-4A2B-A1C5-DF8529D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962-C847-40EE-A463-D285A04A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D77D-C563-4B02-9241-9CA84A1C9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5:03Z</dcterms:created>
  <dc:creator>Juergen Schmitz</dc:creator>
  <dc:description/>
  <dc:language>en-US</dc:language>
  <cp:lastModifiedBy>Juergen Schmitz</cp:lastModifiedBy>
  <dcterms:modified xsi:type="dcterms:W3CDTF">2006-09-18T12:15:29Z</dcterms:modified>
  <cp:revision>1</cp:revision>
  <dc:subject/>
  <dc:title>Folie 1</dc:title>
</cp:coreProperties>
</file>